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72FD-22F1-4A96-80C4-3D13E6A98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28D1-0705-44FE-B7A6-CB1F0763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8DD9-731B-41A5-BA98-B7FEAF501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0187-2822-46DB-B61C-17969B767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1A0C-FC58-4B45-A2A4-44466A66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F52-1977-4C26-B14E-64A40A6D7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39B2-0761-4839-9C40-3C3202947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8477-3032-4A2C-8FE5-113C12F63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7AFD-4E72-4D1B-BA49-49E9EF580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548-69C1-4EC2-BE8E-C35BBD89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E2E-A1D5-46DF-90E5-5690680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CE7-20C2-4D56-A23C-48DDDE2E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0A4-B95A-4291-950F-4314C1CF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67F-67B2-458A-B6F4-D36B71F3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6D7-D963-4DFE-9505-60B14E6D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B2E-CABD-4529-8BC5-B80B0E31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7DC-246D-44BA-B864-4E098CDB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A73-BA31-4F00-AD78-ED0EC08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F77-8B43-47AC-887C-9BF198D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94A-4555-41BF-B4F6-27E8B93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F81-63D1-4701-AE9F-2A04404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6794-814A-45E2-9656-BCBDDD078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8" name="Picture 6" descr="Picture 2.png"/>
          <p:cNvPicPr/>
          <p:nvPr/>
        </p:nvPicPr>
        <p:blipFill>
          <a:blip r:embed="rId1"/>
          <a:stretch/>
        </p:blipFill>
        <p:spPr>
          <a:xfrm>
            <a:off x="2514600" y="685800"/>
            <a:ext cx="4114800" cy="31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981080" y="3809880"/>
          <a:ext cx="5105520" cy="148608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in 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14400" y="5375160"/>
          <a:ext cx="7238880" cy="148608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5:46:14Z</dcterms:created>
  <dc:creator>Julie Libarkin</dc:creator>
  <dc:description/>
  <dc:language>en-US</dc:language>
  <cp:lastModifiedBy>Nicole LaDue</cp:lastModifiedBy>
  <dcterms:modified xsi:type="dcterms:W3CDTF">2010-12-20T17:13:00Z</dcterms:modified>
  <cp:revision>301</cp:revision>
  <dc:subject/>
  <dc:title>PowerPoint Presentation</dc:title>
</cp:coreProperties>
</file>